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F1C99-B556-422E-80D3-DCAC9339F2F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02956-8737-4BFA-961C-7537C37CA71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64552-05AE-45C3-8EAF-9EE17B26EC1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09D-71F2-4F85-A137-326D3BC7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E01D-BF5A-4F16-A4A6-E8B5C587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393-CA95-42C6-B2FE-BF541366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E5DF-7238-48A3-AEAE-97FA5E48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052-6219-4A4A-97DF-740773EE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E17-54E1-491E-804F-CCFE43DC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F2F-985A-48F5-8052-2FC07A1F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24A-DC5B-40FF-9A62-CD1E89E4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66B-4450-4830-89B2-397C6A08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F57-D4C6-407C-8A5C-809FAD9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0FE8-C156-498A-8FAA-5BDC1528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7E7-F595-4528-8580-41C347BF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ABFCA-BAAD-4CC2-8CDE-FC0009D95A4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600" spc="-1" strike="noStrike">
                <a:solidFill>
                  <a:srgbClr val="dddddd"/>
                </a:solidFill>
                <a:latin typeface="Freeroad"/>
              </a:rPr>
              <a:t>why vr will suck until graphics get b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cccccc"/>
                </a:solidFill>
                <a:latin typeface="Freeroad"/>
              </a:rPr>
              <a:t>cale bradb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cccccc"/>
                </a:solidFill>
                <a:latin typeface="Freeroad"/>
              </a:rPr>
              <a:t>@netgr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gif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co-founder of camp 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cccccc"/>
                </a:solidFill>
                <a:latin typeface="Freeroad"/>
              </a:rPr>
              <a:t>shaders for sound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4400" spc="-1" strike="noStrike">
                <a:solidFill>
                  <a:srgbClr val="bfbfbf"/>
                </a:solidFill>
                <a:latin typeface="Freeroad"/>
              </a:rPr>
              <a:t>worst off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glitch.mp4" descr=""/>
          <p:cNvPicPr/>
          <p:nvPr/>
        </p:nvPicPr>
        <p:blipFill>
          <a:blip r:embed="rId1"/>
          <a:stretch/>
        </p:blipFill>
        <p:spPr>
          <a:xfrm>
            <a:off x="239760" y="1547640"/>
            <a:ext cx="9601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2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4400" spc="-1" strike="noStrike">
                <a:solidFill>
                  <a:srgbClr val="bfbfbf"/>
                </a:solidFill>
                <a:latin typeface="Freeroad"/>
              </a:rPr>
              <a:t>ray tracing/mar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1287360" y="1768320"/>
            <a:ext cx="750096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cccccc"/>
                </a:solidFill>
                <a:latin typeface="Freeroad"/>
              </a:rPr>
              <a:t>mindmelting hyper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grid.mp4" descr=""/>
          <p:cNvPicPr/>
          <p:nvPr/>
        </p:nvPicPr>
        <p:blipFill>
          <a:blip r:embed="rId1"/>
          <a:stretch/>
        </p:blipFill>
        <p:spPr>
          <a:xfrm>
            <a:off x="287280" y="1457280"/>
            <a:ext cx="9506160" cy="5346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339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4400" spc="-1" strike="noStrike">
                <a:solidFill>
                  <a:srgbClr val="bfbfbf"/>
                </a:solidFill>
                <a:latin typeface="Freeroad"/>
              </a:rPr>
              <a:t>glitchgod game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glitchgrid.mp4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97218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339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22:33:56Z</dcterms:created>
  <dc:creator>Cale Bradbury</dc:creator>
  <dc:description/>
  <dc:language>en-US</dc:language>
  <cp:lastModifiedBy>Cale</cp:lastModifiedBy>
  <dcterms:modified xsi:type="dcterms:W3CDTF">2015-08-25T05:40:20Z</dcterms:modified>
  <cp:revision>7</cp:revision>
  <dc:subject/>
  <dc:title>why vr will suck until graphics get better</dc:title>
</cp:coreProperties>
</file>