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7224B-F973-4444-BE5E-58D1DE7CD4B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3C8C9-391C-414B-94B7-DA744F3D617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09208-3610-4FB3-A690-390013D1BFE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16D-C790-4DE1-B180-2B3DF3D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D93-DA89-4395-ADA7-6CEE7EE6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3E4-F4BB-4018-AC13-7C37542E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B4B-2743-4B2A-AC5A-423A415D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952-7816-4EAC-9E96-860AE6C2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9B3-B0B1-4574-8796-0EF6A013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C34-21EB-4FD7-B93B-ED9E5E9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FDB-CF94-4290-BD05-3A84654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D58-9645-46DC-8876-3DA9A668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624-6C3C-4D74-A0BC-E2815B2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811-E510-4C4F-95A2-46B01B0C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3E5-6A86-41CE-9A18-E0E68A7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4EA90-90D3-405C-9C5C-F6C9BD5681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600" spc="-1" strike="noStrike">
                <a:solidFill>
                  <a:srgbClr val="dddddd"/>
                </a:solidFill>
                <a:latin typeface="Freeroad"/>
              </a:rPr>
              <a:t>why vr will suck until graphics ge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cccccc"/>
                </a:solidFill>
                <a:latin typeface="Freeroad"/>
              </a:rPr>
              <a:t>cale bradb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cccccc"/>
                </a:solidFill>
                <a:latin typeface="Freeroad"/>
              </a:rPr>
              <a:t>@netgr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cccccc"/>
                </a:solidFill>
                <a:latin typeface="Freeroad"/>
              </a:rPr>
              <a:t>gif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cccccc"/>
                </a:solidFill>
                <a:latin typeface="Freeroad"/>
              </a:rPr>
              <a:t>co-founder of camp 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cccccc"/>
                </a:solidFill>
                <a:latin typeface="Freeroad"/>
              </a:rPr>
              <a:t>shaders for sound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cccccc"/>
                </a:solidFill>
                <a:latin typeface="Freeroad"/>
              </a:rPr>
              <a:t>mindmelting hyper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id.mp4" descr=""/>
          <p:cNvPicPr/>
          <p:nvPr/>
        </p:nvPicPr>
        <p:blipFill>
          <a:blip r:embed="rId1"/>
          <a:stretch/>
        </p:blipFill>
        <p:spPr>
          <a:xfrm>
            <a:off x="287280" y="1457280"/>
            <a:ext cx="9506160" cy="534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9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22:33:56Z</dcterms:created>
  <dc:creator>Cale Bradbury</dc:creator>
  <dc:description/>
  <dc:language>en-US</dc:language>
  <cp:lastModifiedBy>Cale</cp:lastModifiedBy>
  <dcterms:modified xsi:type="dcterms:W3CDTF">2015-08-25T02:47:18Z</dcterms:modified>
  <cp:revision>3</cp:revision>
  <dc:subject/>
  <dc:title>why vr will suck until graphics get better</dc:title>
</cp:coreProperties>
</file>